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CAF6A-1B2D-4214-9DDF-E588D8B2F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72E87-0131-49E5-8A0C-9AA6A4C5C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F614F45-7AB4-4137-BE23-898420248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D02A1-9EF6-49B1-A7CB-427AFB17A7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0D461-E533-46FA-965B-6D4991C35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575190B-1574-49DB-8459-2B0F831BD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4A8D4-E30B-40EF-A788-75C0D194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C4A5835-F4FC-4820-85C2-84393848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00059-F57C-4ACB-B803-5FE336109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6CF4677-052A-492A-9966-B01FA6B39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463F3-1087-4D72-A6DC-E127B6E4E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36DA50F-65E6-4EBE-A536-43FDC11B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29F90-A132-4F4F-B943-357774C306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3C5B6-BCD4-4F51-8C96-734D99CB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11CDAE7-0902-4574-AA4D-BFCDA0779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C4F12-8653-40C6-92B7-D5F7F63216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D6306-E333-45D5-8AE2-6EED6C870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6DFE7C9-819B-422A-96D0-6511CCDA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8DDA7-DE72-4564-BDB6-DBABAEBCE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D958F3B-9AAF-43F9-AD5F-5BDAEC3E8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0160D-F4EE-4D22-A9A1-611D041B8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83838AE-D364-4429-B129-10A21DA5C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7A708-0899-4900-ACF7-ABCA77AE4F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967F2-22B3-4951-9EEA-14F045EF4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3DCA6F8-8BEC-4732-B819-91464F759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4435A-FF85-40EA-A744-2084871F0A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C1217-2423-40ED-8388-4F2AFFFEB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8E55052-303F-4758-B4CF-3E3B7F61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BE8E7-A81B-475E-87F0-A37768E9C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C7FE88A-60FA-441F-84D1-A80E0AC25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D9157-61CE-4E2E-9675-C2DCF816B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175707B-444B-4192-A4C9-DEA63C987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1148C-D8F3-47F0-A54A-7DD7794B4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FE66328-2455-4C50-8ACF-745289D94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DF627-6683-4E2B-8215-9529AF646B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6100B-4037-4339-9178-58ED34ACE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84E4525-2C19-4C18-A09C-39E9C6C94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B5CF2-DA97-4C7D-B814-91E8075F85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A9143-168F-4492-BF39-87102CAE5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D667D56-EFCE-48DD-A244-65C1958FD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681F8-B784-4F85-A954-68B5C59AB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1684EE5-BF07-40CB-A0C6-1FC5D62C7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23D96-E943-4747-A005-B1AA8DA7D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10F8507-60DD-4BD3-A734-BE43673E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FEC8B-35CD-429F-AD5F-B01D9567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18FA53E-2358-45FB-BFE9-283BEC845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1EAB8-10E3-4E71-A4A8-B654F1A4A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FDD10C3-056D-44AD-8026-0E181A9FF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7FDAD-97D9-42D5-A841-0F0FF91F8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5A94720-BC9B-48B7-AA27-8C4DF4E62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D4062-E596-4E45-A0A4-7D4C10E1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65C085C-CB51-426C-A7C2-80810EF8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FD0A8-8FF7-417E-A196-B637D570A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9B43862-BADE-454A-B164-0AF7067EE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4DF0C-D84D-476D-AD8C-3062C8578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15DED48-F94D-48F4-BA06-C074BE797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76C76-D91E-4D29-BE7B-75569AD1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18515E0-69EE-4EB4-8442-67904C86F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D57A0-BA22-4236-90AD-F9427CEE3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0BEBBEC-7683-4873-8143-781BEEB35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1C57D-C4D3-4AB8-AE5A-02FE26D6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8484109-AEDC-468B-B0BC-732A321DF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DE27A-39A8-44C7-B1CC-DB015B258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9E6A2B3-9855-4F53-A690-1A8B2A50B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245C1-7D6D-4DC9-9758-B891F382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1585164-9B87-4D51-8411-F6B872B52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36823-076C-4207-BC13-7631E238C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5F10D63-55EF-4CAA-94CE-D751B1B9E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E869F-82D1-492E-B1D9-AEF2AFDC3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49179EF-3284-4E5D-B210-2CC597D42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C1FE9-69EF-4AA3-A991-9FBC3C97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3DDAA7C-EEA4-4210-B5B8-BF99A730D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403E8-26C5-4538-9DC6-B170BA165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D8A58C2-D7C6-4BCD-BF57-9BA52E092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8B55F-6CD7-4F68-8C81-6F6882863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7AAEFAF-55B5-46ED-B368-A955C30C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BFFCE-D0AB-484D-A15A-D32247201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7A26410-E5C3-4236-AA49-4B8167EB3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E53C7-3276-49AD-BAE2-6EFE071CA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7756D8BB-0A9E-4EAB-8106-810646148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3D2CE-6D9E-468E-8EBF-2590814E1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65B52EA-1C29-4B48-9F26-3F2274018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20E5E-66EB-4D82-9225-F333DADCA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3FA744A-A744-43BB-8AC7-57F40E7F7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CA078-CDC4-4424-9AEA-A7975F7DE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15BA0B3-4BC0-4673-A24D-AF5229BA6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472B7-FD35-434B-8004-4DA1D64FD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835A433-059B-48B0-A35F-CE60BC931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89B58-D830-42F2-8B5B-45AAE3591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7F9D6DD-2D02-408F-AD08-FED041A7B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A14BA-311D-4968-851E-F9A7A7AAD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C2F9DC5-2D4A-4A6E-8B24-D7797C8BF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9DDC1-C344-41C3-8170-C48B72427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38C8455-24BE-44E1-8AF8-26C094F3E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CCE44-E9C1-4B2C-A1D3-DF3B79285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AE239FE-CA45-4A71-A86E-9CE58133B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72F6B-B4E4-4815-8A33-CD7E4E9CA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72373AC-3234-489C-94AD-390C98C15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FA24C-318B-42FD-AE87-D33A8CAFF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9D4226D-F6CD-43D6-B67A-0471A9E75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F7F18-3E26-4A0B-8131-4D892D3F4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114E27F-0A18-44F2-8E9B-C315938AB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56B68-9EB9-4EF1-BEFA-7764B1975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FED7E3E-24C3-4628-930F-9F1D510C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5E175-C157-4002-8D60-F5F61FE5F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1E31C33-2E95-4286-BF35-2613F7C3A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82043-FC34-40ED-AFBB-B074FF2E9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9E21CB9-FBF2-41B1-91F3-603F52003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64E5F0E9-CA74-4B4A-8C49-0FF335EA41D9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405DA682-A911-4137-95C7-49A000EE39E6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C6741450-5C81-4EA7-953F-87ECEA5CFF7D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FF822C27-0325-4987-82B6-4B73EAF1089D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2A37477C-DC38-4494-A902-F07CA09BD609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2AD5BDE3-EFA1-4C99-B370-E652ECAA295C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795672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1160" y="4254480"/>
            <a:ext cx="9136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-61920" y="2422440"/>
            <a:ext cx="9136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ochromic anem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ections of the respiratory tr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; Acne vulgaris; Е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z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uberculosis of the bo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joints, skin (quiet form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hitis and osteomalacia; Osteopor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generative rheumatic disea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ions of the peripheral motor neur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getative disorders etc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ung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s after cerebrovascular insu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dermat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ROM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Text Box 2" descr=""/>
          <p:cNvPicPr/>
          <p:nvPr/>
        </p:nvPicPr>
        <p:blipFill>
          <a:blip r:embed="rId1"/>
          <a:stretch/>
        </p:blipFill>
        <p:spPr>
          <a:xfrm>
            <a:off x="384120" y="1481040"/>
            <a:ext cx="844236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484280"/>
            <a:ext cx="8291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25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Verdana"/>
              </a:rPr>
              <a:t>COLD COLOR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lue, velvet and green) have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dative eff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Blue color</a:t>
            </a:r>
            <a:r>
              <a:rPr b="1" lang="de-DE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or color neutralization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icterus neonatorum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; improves motor-coordinative proces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520018"/>
                </a:solidFill>
                <a:latin typeface="Verdana"/>
                <a:ea typeface="Microsoft YaHei"/>
              </a:rPr>
              <a:t>Velvet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lows the breathing rhythm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but deepens and increases ventilation capacity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Verdana"/>
                <a:ea typeface="Microsoft YaHei"/>
              </a:rPr>
              <a:t>Green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as a calming effect and improves anabolic proces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Penetration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,1-0,5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m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292" name="AutoShape 4"/>
            <p:cNvCxnSpPr/>
            <p:nvPr/>
          </p:nvCxnSpPr>
          <p:spPr>
            <a:xfrm>
              <a:off x="538200" y="21315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293" name="AutoShape 5"/>
            <p:cNvCxnSpPr/>
            <p:nvPr/>
          </p:nvCxnSpPr>
          <p:spPr>
            <a:xfrm>
              <a:off x="538200" y="292464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294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396288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280 - 315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554724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315 - 3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2385360" y="1773360"/>
              <a:ext cx="1245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3,6 - 2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Text Box 13"/>
            <p:cNvSpPr/>
            <p:nvPr/>
          </p:nvSpPr>
          <p:spPr>
            <a:xfrm>
              <a:off x="593280" y="3069360"/>
              <a:ext cx="805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Х - 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Text Box 14"/>
            <p:cNvSpPr/>
            <p:nvPr/>
          </p:nvSpPr>
          <p:spPr>
            <a:xfrm>
              <a:off x="727992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4220640" y="2364120"/>
              <a:ext cx="5770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5902200" y="2364120"/>
              <a:ext cx="579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" name="Text Box 17"/>
            <p:cNvSpPr/>
            <p:nvPr/>
          </p:nvSpPr>
          <p:spPr>
            <a:xfrm>
              <a:off x="2655360" y="2364120"/>
              <a:ext cx="570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ransition of UV rays through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7200" y="1484280"/>
            <a:ext cx="505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 almost complete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 and by atmosphere oxygen (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B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reat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reaches great amounts in the earth’s surface, because it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or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Sources of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tifici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therm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- are not used in therap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luminisc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– quartz lamps with a mercury ar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QUARTZ LAM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816360" cy="368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rcRect l="47903" t="-418" r="0" b="0"/>
          <a:stretch/>
        </p:blipFill>
        <p:spPr>
          <a:xfrm>
            <a:off x="826920" y="1916280"/>
            <a:ext cx="2563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BASIC TE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28760" y="135720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THERAPY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 of the light energy of the Sun or artificial sources of lig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belongs 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lectromagnetic spectr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onsists of the particl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n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ze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light quantum depends 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quantum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ck’s constan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=6,626 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34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J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c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of light travelling through a vacuum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300.000km/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714240" y="3500280"/>
            <a:ext cx="754092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412920" y="63360"/>
            <a:ext cx="6994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en-GB" sz="2200" spc="-1" strike="noStrike">
                <a:solidFill>
                  <a:srgbClr val="f0000c"/>
                </a:solidFill>
                <a:latin typeface="Verdana"/>
              </a:rPr>
              <a:t>BIOLOGICAL AND PHYSIOLOGICAL EFFECTS OF UV RADIATION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95280" y="1557360"/>
            <a:ext cx="842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chemica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oking chemical reactions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hange of the atomic arrangement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Verdana"/>
              </a:rPr>
              <a:t>ratio in a molecule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tosinthesis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ee radicals are form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zymes are activat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ease of biologically active materia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istamin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etylcholine etc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electri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of the atomic balance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mission of the electr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ition of colloids from the state of salt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g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aturation of proteins and inactivation of enzymes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oresc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ility of some substances to reemit the absorbed Е of UV radiation of on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365,5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od’s l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ll directions, but with high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diagnostic purpo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f0000c"/>
                </a:solidFill>
                <a:uFillTx/>
                <a:latin typeface="Verdana"/>
              </a:rPr>
              <a:t>LOCAL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ythema– chemical; latent period 4-6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cell regeneration and epythe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ue to increase in the number of the cell divisio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tericide and bacteriosta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REFLEXIVE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REACTION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y occur via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utivisceral reflex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th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ecretion of gastric jui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ntestinal peristal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elimination of water and electrolites through the kidne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reath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lood press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otophob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GENERAL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250920" y="1268280"/>
            <a:ext cx="8361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Consequences of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photochemical effect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Er and Hgb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Le and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version of provitamin 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tamin D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Ca and 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glycemia, cholestero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the function of the thyroid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drenal and sexual gla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RAPEUTIC EFFECT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Improvement of regeneration (epithelization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VIDUAL SENSITIVITY TO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a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Body reg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Physiological conditions (menses, pregnancy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Diseases (DM, albinism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OTOSENSITIZ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d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bile col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orphirin, thyroxin, gonadotropic hormones, adrenalin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insul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heavy metal sal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enicillin,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tetracycli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lphonamides, rivanol, eosin, gold salts etc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60360" y="143208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 of individual and regional sensi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ODOSI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s the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time interv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[min]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f radiation during which UV rays from a known source, from a certain distance, cause just perceptible erythema on the skin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minimal erythemal dos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iodosimete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5 fiel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3 fields, by Prof. Rotovic and Pro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ilicev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7104240" y="4098960"/>
            <a:ext cx="1000080" cy="1662120"/>
            <a:chOff x="7104240" y="4098960"/>
            <a:chExt cx="1000080" cy="1662120"/>
          </a:xfrm>
        </p:grpSpPr>
        <p:sp>
          <p:nvSpPr>
            <p:cNvPr id="330" name="Rectangle 4"/>
            <p:cNvSpPr/>
            <p:nvPr/>
          </p:nvSpPr>
          <p:spPr>
            <a:xfrm>
              <a:off x="7180200" y="4098960"/>
              <a:ext cx="924120" cy="16621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Rectangle 5"/>
            <p:cNvSpPr/>
            <p:nvPr/>
          </p:nvSpPr>
          <p:spPr>
            <a:xfrm>
              <a:off x="7304040" y="42418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7304040" y="47656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7304040" y="525132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7104240" y="4270320"/>
              <a:ext cx="59184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ETERMINI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4928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TERPRET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8" name="Group 2"/>
          <p:cNvGrpSpPr/>
          <p:nvPr/>
        </p:nvGrpSpPr>
        <p:grpSpPr>
          <a:xfrm>
            <a:off x="539640" y="1557360"/>
            <a:ext cx="7985160" cy="5032440"/>
            <a:chOff x="539640" y="1557360"/>
            <a:chExt cx="7985160" cy="5032440"/>
          </a:xfrm>
        </p:grpSpPr>
        <p:sp>
          <p:nvSpPr>
            <p:cNvPr id="339" name="Rectangle 3"/>
            <p:cNvSpPr/>
            <p:nvPr/>
          </p:nvSpPr>
          <p:spPr>
            <a:xfrm>
              <a:off x="539640" y="1557360"/>
              <a:ext cx="230112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Degree of erythema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2847240" y="1557360"/>
              <a:ext cx="3461400" cy="1141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Exposure time in 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6316920" y="1557360"/>
              <a:ext cx="219780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Biodosis in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847240" y="27079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400428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>
              <a:off x="515844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39640" y="32616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>
              <a:off x="2847240" y="326160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400428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515844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6316920" y="326160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Rectangle 14"/>
            <p:cNvSpPr/>
            <p:nvPr/>
          </p:nvSpPr>
          <p:spPr>
            <a:xfrm>
              <a:off x="539640" y="38142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Rectangle 15"/>
            <p:cNvSpPr/>
            <p:nvPr/>
          </p:nvSpPr>
          <p:spPr>
            <a:xfrm>
              <a:off x="2847240" y="381420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400428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15844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6316920" y="381420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0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Rectangle 19"/>
            <p:cNvSpPr/>
            <p:nvPr/>
          </p:nvSpPr>
          <p:spPr>
            <a:xfrm>
              <a:off x="539640" y="436788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Rectangle 20"/>
            <p:cNvSpPr/>
            <p:nvPr/>
          </p:nvSpPr>
          <p:spPr>
            <a:xfrm>
              <a:off x="2847240" y="436788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400428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Rectangle 22"/>
            <p:cNvSpPr/>
            <p:nvPr/>
          </p:nvSpPr>
          <p:spPr>
            <a:xfrm>
              <a:off x="515844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Rectangle 23"/>
            <p:cNvSpPr/>
            <p:nvPr/>
          </p:nvSpPr>
          <p:spPr>
            <a:xfrm>
              <a:off x="6316920" y="436788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Rectangle 24"/>
            <p:cNvSpPr/>
            <p:nvPr/>
          </p:nvSpPr>
          <p:spPr>
            <a:xfrm>
              <a:off x="539640" y="492336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Rectangle 25"/>
            <p:cNvSpPr/>
            <p:nvPr/>
          </p:nvSpPr>
          <p:spPr>
            <a:xfrm>
              <a:off x="2847240" y="492336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400428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Rectangle 27"/>
            <p:cNvSpPr/>
            <p:nvPr/>
          </p:nvSpPr>
          <p:spPr>
            <a:xfrm>
              <a:off x="515844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Rectangle 28"/>
            <p:cNvSpPr/>
            <p:nvPr/>
          </p:nvSpPr>
          <p:spPr>
            <a:xfrm>
              <a:off x="6316920" y="492336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Rectangle 29"/>
            <p:cNvSpPr/>
            <p:nvPr/>
          </p:nvSpPr>
          <p:spPr>
            <a:xfrm>
              <a:off x="539640" y="5478480"/>
              <a:ext cx="2301120" cy="54756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Rectangle 30"/>
            <p:cNvSpPr/>
            <p:nvPr/>
          </p:nvSpPr>
          <p:spPr>
            <a:xfrm>
              <a:off x="2847240" y="5478480"/>
              <a:ext cx="114912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Rectangle 31"/>
            <p:cNvSpPr/>
            <p:nvPr/>
          </p:nvSpPr>
          <p:spPr>
            <a:xfrm>
              <a:off x="400428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Rectangle 32"/>
            <p:cNvSpPr/>
            <p:nvPr/>
          </p:nvSpPr>
          <p:spPr>
            <a:xfrm>
              <a:off x="515844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Rectangle 33"/>
            <p:cNvSpPr/>
            <p:nvPr/>
          </p:nvSpPr>
          <p:spPr>
            <a:xfrm>
              <a:off x="6316920" y="5478480"/>
              <a:ext cx="219780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Rectangle 34"/>
            <p:cNvSpPr/>
            <p:nvPr/>
          </p:nvSpPr>
          <p:spPr>
            <a:xfrm>
              <a:off x="539640" y="603432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Rectangle 35"/>
            <p:cNvSpPr/>
            <p:nvPr/>
          </p:nvSpPr>
          <p:spPr>
            <a:xfrm>
              <a:off x="2847240" y="60343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Rectangle 36"/>
            <p:cNvSpPr/>
            <p:nvPr/>
          </p:nvSpPr>
          <p:spPr>
            <a:xfrm>
              <a:off x="400428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Rectangle 37"/>
            <p:cNvSpPr/>
            <p:nvPr/>
          </p:nvSpPr>
          <p:spPr>
            <a:xfrm>
              <a:off x="515844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Rectangle 38"/>
            <p:cNvSpPr/>
            <p:nvPr/>
          </p:nvSpPr>
          <p:spPr>
            <a:xfrm>
              <a:off x="6316920" y="603432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3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Line 39"/>
            <p:cNvSpPr/>
            <p:nvPr/>
          </p:nvSpPr>
          <p:spPr>
            <a:xfrm>
              <a:off x="284724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Line 40"/>
            <p:cNvSpPr/>
            <p:nvPr/>
          </p:nvSpPr>
          <p:spPr>
            <a:xfrm>
              <a:off x="284724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Line 41"/>
            <p:cNvSpPr/>
            <p:nvPr/>
          </p:nvSpPr>
          <p:spPr>
            <a:xfrm>
              <a:off x="284724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Line 42"/>
            <p:cNvSpPr/>
            <p:nvPr/>
          </p:nvSpPr>
          <p:spPr>
            <a:xfrm>
              <a:off x="400428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43"/>
            <p:cNvSpPr/>
            <p:nvPr/>
          </p:nvSpPr>
          <p:spPr>
            <a:xfrm>
              <a:off x="515844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44"/>
            <p:cNvSpPr/>
            <p:nvPr/>
          </p:nvSpPr>
          <p:spPr>
            <a:xfrm>
              <a:off x="631692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45"/>
            <p:cNvSpPr/>
            <p:nvPr/>
          </p:nvSpPr>
          <p:spPr>
            <a:xfrm>
              <a:off x="631692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Line 46"/>
            <p:cNvSpPr/>
            <p:nvPr/>
          </p:nvSpPr>
          <p:spPr>
            <a:xfrm>
              <a:off x="631692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Line 47"/>
            <p:cNvSpPr/>
            <p:nvPr/>
          </p:nvSpPr>
          <p:spPr>
            <a:xfrm>
              <a:off x="2847240" y="2707920"/>
              <a:ext cx="34614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Line 48"/>
            <p:cNvSpPr/>
            <p:nvPr/>
          </p:nvSpPr>
          <p:spPr>
            <a:xfrm>
              <a:off x="539640" y="3261600"/>
              <a:ext cx="23011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5" name="Line 49"/>
            <p:cNvSpPr/>
            <p:nvPr/>
          </p:nvSpPr>
          <p:spPr>
            <a:xfrm>
              <a:off x="2847240" y="3261600"/>
              <a:ext cx="346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Line 50"/>
            <p:cNvSpPr/>
            <p:nvPr/>
          </p:nvSpPr>
          <p:spPr>
            <a:xfrm>
              <a:off x="6316920" y="3261600"/>
              <a:ext cx="21978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Line 51"/>
            <p:cNvSpPr/>
            <p:nvPr/>
          </p:nvSpPr>
          <p:spPr>
            <a:xfrm>
              <a:off x="539640" y="38142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Line 52"/>
            <p:cNvSpPr/>
            <p:nvPr/>
          </p:nvSpPr>
          <p:spPr>
            <a:xfrm>
              <a:off x="539640" y="43678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53"/>
            <p:cNvSpPr/>
            <p:nvPr/>
          </p:nvSpPr>
          <p:spPr>
            <a:xfrm>
              <a:off x="539640" y="4923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Line 54"/>
            <p:cNvSpPr/>
            <p:nvPr/>
          </p:nvSpPr>
          <p:spPr>
            <a:xfrm>
              <a:off x="539640" y="54784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Line 55"/>
            <p:cNvSpPr/>
            <p:nvPr/>
          </p:nvSpPr>
          <p:spPr>
            <a:xfrm>
              <a:off x="539640" y="603432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Line 56"/>
            <p:cNvSpPr/>
            <p:nvPr/>
          </p:nvSpPr>
          <p:spPr>
            <a:xfrm>
              <a:off x="53964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Line 57"/>
            <p:cNvSpPr/>
            <p:nvPr/>
          </p:nvSpPr>
          <p:spPr>
            <a:xfrm>
              <a:off x="852480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" name="Line 58"/>
            <p:cNvSpPr/>
            <p:nvPr/>
          </p:nvSpPr>
          <p:spPr>
            <a:xfrm>
              <a:off x="539640" y="1557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Line 59"/>
            <p:cNvSpPr/>
            <p:nvPr/>
          </p:nvSpPr>
          <p:spPr>
            <a:xfrm>
              <a:off x="539640" y="65898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EM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SPECTRUM ACCORDING TO THE WAVELENGTH OF ACTIVE</a:t>
            </a: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 ЕМ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RAY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05440" cy="381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30080" y="2013120"/>
            <a:ext cx="270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282480" y="1969920"/>
            <a:ext cx="38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670400" y="1890720"/>
            <a:ext cx="26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ᵞ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075280" y="1984320"/>
            <a:ext cx="328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622840" y="1984320"/>
            <a:ext cx="592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263280" y="1969920"/>
            <a:ext cx="99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diowa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ratoconjunctivitis ("snow blindness") when looking directly at the source of radiation;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aring protective g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radiation exposure is overdo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ancerous and cancerous skin lesions (important for cosmetolog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GENER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ala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ach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yel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LOC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457200" y="1413000"/>
            <a:ext cx="8435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ki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diseases - alopecia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cubit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eur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- neuralgia, neurit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cervical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, lumba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heumat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degenerative rheumatism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extraarticular rheumatis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Orthopedics 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conditions after bone fractures, soft-tissue injuri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Gynec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adnexitis, dysmenorrhe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Vascular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urgery – vascular-based torpid wound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lcus crur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phthalmology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- blepharitis, trachom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457200" y="1628640"/>
            <a:ext cx="8143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pulmonary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sychiatric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vanced cachexia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genic skin diseases - pellagra, lupu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lignant skin tum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Roentgen derm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ypervitaminosis B1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INFRARED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FRARED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457200" y="3000240"/>
            <a:ext cx="814392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 IR ray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770 - 1500 n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ng I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ra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1500 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Verdana"/>
              </a:rPr>
              <a:t>Penetration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0,5-1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413" name="AutoShape 4"/>
            <p:cNvCxnSpPr/>
            <p:nvPr/>
          </p:nvCxnSpPr>
          <p:spPr>
            <a:xfrm>
              <a:off x="538200" y="21333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414" name="AutoShape 5"/>
            <p:cNvCxnSpPr/>
            <p:nvPr/>
          </p:nvCxnSpPr>
          <p:spPr>
            <a:xfrm>
              <a:off x="538200" y="292608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415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Text Box 10"/>
            <p:cNvSpPr/>
            <p:nvPr/>
          </p:nvSpPr>
          <p:spPr>
            <a:xfrm>
              <a:off x="3985920" y="1773360"/>
              <a:ext cx="1387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500 -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712480" y="1785960"/>
              <a:ext cx="100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2390400" y="1773360"/>
              <a:ext cx="1293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770 - 15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57744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IGHT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7283880" y="3069360"/>
              <a:ext cx="125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MICROWAVE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4229640" y="2364120"/>
              <a:ext cx="517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5910840" y="2364120"/>
              <a:ext cx="511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2664720" y="2364120"/>
              <a:ext cx="520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OURCES OF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ource is sunligh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tifici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urc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„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lux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lamp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eater reflector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emission of long wav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ight baths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full, semi, par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RTIFICIAL SOURCES OF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924360" y="1773360"/>
            <a:ext cx="3600360" cy="475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384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YPES OF 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liotherap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use of natural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romotherap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ction of certain colors from the visible spectr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UV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red rays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I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AS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- Light Amplific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Stimulated Emission of Radia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YSIOLOGICAL EFFECT OF IR RADI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 of the photon of IR r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lecular excita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crease of the local tissue 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ocal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without latent period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thermal, inhomogenous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unclearly demarcated, more intense along the capillaries, short-lasting, lost completely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Reflexive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Vasodilation involving also deeper tiss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via cutivisceral Rf, via Head zone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ensual re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General rea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weat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reath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heart 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edematous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pasmoli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ophic 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gran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YNERGISM AND ANTAGONISM OF IR AND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IR rays applied simulateneously or before 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increase the effec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UV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ago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IR rays applied after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decrease the effect of U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 radiation from the lamp is the most efficient method of burn prevention, if UV radiation is overdosed (if used before the develop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 AND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dependent (rarely) or introductory (more common) proced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pidermal defects are not a contraind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patient wears protective glasses (catarac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ing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according to subjective fee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xposure time 5-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20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mi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rie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-15 days,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paus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 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74680" y="457200"/>
            <a:ext cx="87328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457200" y="1584360"/>
            <a:ext cx="8362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E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radiation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intensity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x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cos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of the angle of incidence 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uration time</a:t>
            </a:r>
            <a:r>
              <a:rPr b="1" lang="sr-Latn-RS" sz="18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source</a:t>
            </a:r>
            <a:r>
              <a:rPr b="0" lang="de-DE" sz="1800" spc="-1" strike="noStrike" baseline="33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OCAL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smaller distanc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ENERAL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greater 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rapping after the therapy (an independent procedur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IR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a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uring long eye exposure to IR radiation;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tective g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voding looking directly at the sou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ypesthesis in neurological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adequate lamp handling (direct contact with the sk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ntroduction to e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ectrostimulation, stable galvanization, electroforesi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traction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kryotherap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Lesions of the PM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yalgi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euralg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Post-traumatic conditions of the soft tissues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(after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 48 h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generative and extra-articular rheumat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kin diseases (acne, furunculi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fungal disea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herp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ubit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in after a tooth extrac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rontal and maxillary sinus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cute skin and joint inflam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lusive arterial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n anesthesia to thermal stimu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czema, dermatitis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57200" y="9216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graph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 photograph registration of the skin temperature - thermogram. It indicates the state of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circulation in the epidermi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— it depicts the condition of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аrterial blood vessels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visi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provides d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tribution of surface body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temperature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a short tim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2563920" y="3429000"/>
            <a:ext cx="43434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LI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rared photograph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hort IR rays directed at the skin show the state of the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venous system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arterial blood vessels are not see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t is used for the diagnostics of the venous circulation in the mammary glands, circulation during gravidity and post-partum, venous circulation in portal hypertension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95280" y="1052640"/>
            <a:ext cx="828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light contain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5-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0% of IC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%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visible light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1-3% of UV an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% of other ra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ffec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the Sun depends o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e s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art of the day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 the zenith it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sity is about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times strong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bove-sea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ickness of the air lay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loud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ir polluti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dus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smoke, soot, water steam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other particle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OTOSENSI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kin of the chest, bac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bdomen and flexor sides of the extremit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ological condition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gnanc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reast fee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ase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inis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reg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SUN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457200" y="1413000"/>
            <a:ext cx="8143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obiological reaction of the organ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the skin turg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d exchange of gas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lance of the vegetative nervous syst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the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Hg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eve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lood ele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itamin 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tissues etc.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50920" y="1484280"/>
            <a:ext cx="352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bathing scheme by Rol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atoconjunctivit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nstr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ancerous and cancerous le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4389480" y="1279440"/>
            <a:ext cx="4371840" cy="4753080"/>
            <a:chOff x="4389480" y="1279440"/>
            <a:chExt cx="4371840" cy="4753080"/>
          </a:xfrm>
        </p:grpSpPr>
        <p:pic>
          <p:nvPicPr>
            <p:cNvPr id="274" name="Picture 4" descr=""/>
            <p:cNvPicPr/>
            <p:nvPr/>
          </p:nvPicPr>
          <p:blipFill>
            <a:blip r:embed="rId1"/>
            <a:stretch/>
          </p:blipFill>
          <p:spPr>
            <a:xfrm>
              <a:off x="4389480" y="1279440"/>
              <a:ext cx="429588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5"/>
            <p:cNvSpPr/>
            <p:nvPr/>
          </p:nvSpPr>
          <p:spPr>
            <a:xfrm>
              <a:off x="7010280" y="1484280"/>
              <a:ext cx="1293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8381880" y="2819520"/>
              <a:ext cx="379440" cy="23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Minute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23:30Z</dcterms:modified>
  <cp:revision>940</cp:revision>
  <dc:subject/>
  <dc:title>PowerPoint-Präsentation</dc:title>
</cp:coreProperties>
</file>